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7B478-9CB2-4D93-92A5-C27CF6961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F8BEE-503F-4A77-8A5F-EFC6E9826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BC358-8AA5-48B6-98B2-E57918552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5FA5F-F12E-40DB-BEAB-E23847608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F1F1F-CA4D-4CE4-AFBF-D00AA89FB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18584-8A9F-4434-AD4C-4933C70BB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38D5E-8A64-4FE8-9F83-4639BAB39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9AEE-7638-49B7-A71D-0D64C6CFD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F7519-5291-4131-B491-CFFC12DE5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C7DC-5DB0-4826-A458-9A75D639B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2F067-DBA1-4E1F-9A27-66ECB0AB7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29BDB-E77E-45B0-A037-25E3FA0C0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BBAC-ECF9-48C0-8A5D-298785F5A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ir color and IQ!</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serah Monn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jor observatio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e girls worked together better than the boys, yet the boys arguments helped improve scores by having to read the questions more carefully and having to think mor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sible cause of erro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ests were taken around the same time, not at the exact times. Tests not taken in a completely silent area. Some noises and interrup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sear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es working together improve test scores? I found that having the blondes work together, one of them improved their score while the other’s stayed the same. The brunettes both improved their scores, and the score for one of the redheads increased, while the other decreased. Does working together in groups of gender improve test scores? All of the boy’s scores improved, while only two of the girl’s scores improved. One stayed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spen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Approximately 13 h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knowledgemen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anks to the following students who took time out of there work days to test for me. Erin, Nick, Hannah, Tristin, Brayden and Mac. Thanks to all of the students and teachers who proof read and checked. And special thanks to Mrs. Riffel who helped answer my many many questions!</a:t>
            </a: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For years people have said blondes are unintelligent. Scientist have researched, and found that hair color has almost NOTHING to do with intelligence level. Therefore, all blondes being dumb is just a stereotype. They are not actually less intellig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Blondes have, throughout the years, been called dumb. But many blondes have very high intelligence levels. Doctors, scientists, college professors/teachers. Are all examples of smart blon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pothesi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think that the redheads will have the highest score working together. The boys will make the most improvement working together. And the brunettes will have the lowest scores working separ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teri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londes (male femal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redheads (male femal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runettes (male femal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 tes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nswer k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ill have all the students take the same test working alo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ond test will be taken having the students working together in groups of blondes, redheads and brunet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last test will be taken having the students work together in groups of males and fem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Hair col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Sc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led- Students will take the same test at the same t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7" name=""/>
          <p:cNvGraphicFramePr/>
          <p:nvPr/>
        </p:nvGraphicFramePr>
        <p:xfrm>
          <a:off x="609480" y="1371600"/>
          <a:ext cx="7772400" cy="4803840"/>
        </p:xfrm>
        <a:graphic>
          <a:graphicData uri="http://schemas.openxmlformats.org/drawingml/2006/table">
            <a:tbl>
              <a:tblPr/>
              <a:tblGrid>
                <a:gridCol w="1143000"/>
                <a:gridCol w="1150920"/>
                <a:gridCol w="1506600"/>
                <a:gridCol w="1408320"/>
                <a:gridCol w="1317600"/>
                <a:gridCol w="1245960"/>
              </a:tblGrid>
              <a:tr h="162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st #1 (Work alo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st #2 (Work together with hair col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st #3 (Boys work togeth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st #4 (Girls work togeth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ir col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ic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ond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4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nna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ond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625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d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623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ist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d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4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ayd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unet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8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of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unet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bl>
          </a:graphicData>
        </a:graphic>
      </p:graphicFrame>
      <p:sp>
        <p:nvSpPr>
          <p:cNvPr id="58" name=""/>
          <p:cNvSpPr/>
          <p:nvPr/>
        </p:nvSpPr>
        <p:spPr>
          <a:xfrm>
            <a:off x="533520" y="137160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003300"/>
            </a:gs>
            <a:gs pos="100000">
              <a:srgbClr val="66ff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londes had the highest score working together, yet separately the female red head and female blonde had the highest score. The boys had the highest score and improved the most when working together with gend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3T16:05:43Z</dcterms:created>
  <dc:creator>USD376</dc:creator>
  <dc:description/>
  <dc:language>en-US</dc:language>
  <cp:lastModifiedBy>USD376</cp:lastModifiedBy>
  <dcterms:modified xsi:type="dcterms:W3CDTF">2012-03-26T14:29:43Z</dcterms:modified>
  <cp:revision>3</cp:revision>
  <dc:subject/>
  <dc:title>Hair color and IQ!</dc:title>
</cp:coreProperties>
</file>